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2C2-347D-41BD-AD46-90D23E3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37D-B085-4AE4-9D44-1DC9B91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1A3-6CD2-41C0-B7E8-B39E76AF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B53-A5E5-447F-BCDA-E7D8471B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70C-D626-41D0-80CE-331E5A1E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480-CDCB-4262-9491-78AF386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753-3112-469F-B32C-6ACB17C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9B4-A297-4B4D-94C6-6D4D625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E97-9113-4192-B3EE-AB55EA57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B91-F785-46E2-8790-C3751F6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F8F-1B9C-458F-9B38-B388A7C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53E-65FE-4F64-862E-19DE469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1A8C-3D9D-417B-BDC6-1A5AD528451F}" type="slidenum">
              <a:rPr b="0" lang="is-I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800000"/>
                </a:solidFill>
                <a:latin typeface="Arial"/>
              </a:rPr>
              <a:t>Rannsóknarnám við Kennaraháskóla Í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Tillaga til umræð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annsóknarnámsnef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1. des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1640" y="620640"/>
            <a:ext cx="3384360" cy="30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Aðferðafræð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sérhæfð fy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rannsóknarsvi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620640"/>
            <a:ext cx="3384720" cy="30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Kenni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t.d. stefnur og straum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stofnanakenning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námskrárfræð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3429000"/>
            <a:ext cx="3384360" cy="30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Rannsóknarsvi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t.d. rannsóknir á skólastarf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náttúrufræðimenntu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yngri barna svið, fjölmen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rannsóknir með fól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með þroskahöml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255680" y="831960"/>
          <a:ext cx="7288200" cy="51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831960"/>
                    <a:ext cx="728820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63640" y="3645000"/>
            <a:ext cx="6970680" cy="53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æðileg vinnubrögð (5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765000"/>
            <a:ext cx="6969240" cy="711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Aðferðafræði I og Aðferðafræði II (2*5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1938240"/>
            <a:ext cx="6969240" cy="627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Sérhæfing/áhersla í viðfangsefnum rannsókna </a:t>
            </a:r>
            <a:br>
              <a:rPr sz="2000"/>
            </a:b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(2*5 e) (AK, KR eða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2708280"/>
            <a:ext cx="3052800" cy="49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Námskeið 1 ú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A, K eða R flo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2708280"/>
            <a:ext cx="2990880" cy="49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Námskeið 2 ú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A, K eða R flo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4797360"/>
            <a:ext cx="4032360" cy="493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Frjálst val (5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8960" y="5987880"/>
            <a:ext cx="6937200" cy="53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tgerð (3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333360"/>
            <a:ext cx="0" cy="63356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052640"/>
            <a:ext cx="1584360" cy="649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Fararstjó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15920"/>
            <a:ext cx="172872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600" spc="-1" strike="noStrike">
                <a:solidFill>
                  <a:srgbClr val="000000"/>
                </a:solidFill>
                <a:latin typeface="Arial"/>
              </a:rPr>
              <a:t>Hópur/verkefn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600" spc="-1" strike="noStrike">
                <a:solidFill>
                  <a:srgbClr val="000000"/>
                </a:solidFill>
                <a:latin typeface="Arial"/>
              </a:rPr>
              <a:t>svi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Rannsóknarnámsnef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tofa H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Kl. 13:30–14:00 – opið hú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4437000"/>
            <a:ext cx="6050160" cy="192240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587680"/>
            <a:ext cx="3454560" cy="149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M.A. /M.S</a:t>
            </a: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(60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Annað þrep, sti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Viðmið um æðri menntu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bls. 11-13</a:t>
            </a: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836640"/>
            <a:ext cx="3454560" cy="149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Ph.D. (90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Þriðja þrep, sti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Viðmið um æðri menntu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bls. 13-14</a:t>
            </a: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8000" y="2846520"/>
            <a:ext cx="2683080" cy="123012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8000" y="1190520"/>
            <a:ext cx="2683080" cy="123048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a50021"/>
                </a:solidFill>
                <a:latin typeface="Arial"/>
              </a:rPr>
              <a:t>Skipulag 2007-2008</a:t>
            </a:r>
            <a:br>
              <a:rPr sz="4000"/>
            </a:br>
            <a:r>
              <a:rPr b="0" lang="is-IS" sz="2800" spc="-1" strike="noStrike">
                <a:solidFill>
                  <a:srgbClr val="800000"/>
                </a:solidFill>
                <a:latin typeface="Arial"/>
              </a:rPr>
              <a:t>Til umræðu í háskólaráð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nslusvi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arabr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þróttabr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Þroskaþjálfabr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nsóknarsvi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nsóknarnámsbr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437000"/>
            <a:ext cx="7129440" cy="192240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565360"/>
            <a:ext cx="3454560" cy="14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M.A. /M.S</a:t>
            </a: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(60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04640"/>
            <a:ext cx="4535280" cy="2592720"/>
          </a:xfrm>
          <a:prstGeom prst="rect">
            <a:avLst/>
          </a:prstGeom>
          <a:solidFill>
            <a:srgbClr val="fef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Doktorsnám, háskólastarf, rannsóknast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Menntamálaráðuneytið, stjórnsýs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Skólaskrifstofur – mats- og þróunarsvi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Skólar – sjálfsmat, þróunarstarf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gæðaeftirlit, stjórn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Atvinnulíf – endurmenntun, gæðastjórnu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ráðgjöf, nýsköp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8000" y="2846520"/>
            <a:ext cx="2683080" cy="123012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8000" y="1190520"/>
            <a:ext cx="2683080" cy="123048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627280" y="2708280"/>
            <a:ext cx="0" cy="4334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40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a50021"/>
                </a:solidFill>
                <a:latin typeface="Arial"/>
              </a:rPr>
              <a:t>Framtíðarsta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a50021"/>
                </a:solidFill>
                <a:latin typeface="Arial"/>
              </a:rPr>
              <a:t>Nokkur viðmið I - þek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ð nemand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hafi öðlast kerfisbundinn skilning á nýjustu þekkingu sem völ er á innan tiltekins fræða- og/eða starfssvið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geti nýtt þekkingu sína og skilning í faglegri vinnu eða við starfsgrein og hafi hæfni til að rökstyðja faglegar úrlausnir eða lausnir á vanda í viðkomandi fræðigr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uk þekkingarmarkmiða af fyrsta þrepi skal nemandi á öðru þrepi hafa dýpkað eða breikkað þann þekkingargrunn sem hann hefur tileinkað sér á fyrri þrep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a50021"/>
                </a:solidFill>
                <a:latin typeface="Arial"/>
              </a:rPr>
              <a:t>Nokkur viðmið II – tegund þekkingar og hagnýt hæf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ð nemand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hafi mikilvæga vitneskju um vandamál og viðfangsefni, byggða á nýjustu upplýsingum og rannsóknum á viðkomandi fræðasvið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hafi getu og hæfni til þess að meta, greina og afla vísindalegra gag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geti þróað og sett í samhengi verkefni með aðferðum á grunni fræðanna, kenninga og/eða tilra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a50021"/>
                </a:solidFill>
                <a:latin typeface="Arial"/>
              </a:rPr>
              <a:t>Nokkur viðmið III – fræðileg, samskipta- og námshæf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Að nemandinn g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metið sjálfstætt hvenær mismunandi greiningaraðferðir og flókin fræðileg atriði eiga vi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átt frumkvæði að verkefnum á fræðasviði, stýrt þeim verkefnum og axlað ábyrgð á vinnu einstaklinga og hó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greint á skýran og ótvíræðan hátt frá flóknum fræðilegum viðfangsefnum og/eða fræðilega rökstuddum niðurstöðum, einn eða í samstarfi við aðra, bæði meðal sérfræðinga og leikma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þróað með sér nauðsynlega námshæfni og sjálfstæð vinnubrögð til að geta  tekist á hendur frekara nám á þrepi þrjú sem er að miklu leyti byggt á sjálfstæðum vinnubrögðu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4437000"/>
            <a:ext cx="6050160" cy="192240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Inntökuskilyrði eru lokapróf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stigi 2 eða sambærilegt próf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Yfirleitt er krafist fyrstu einkun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052640"/>
            <a:ext cx="2519640" cy="115236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8080"/>
                </a:solidFill>
                <a:latin typeface="Arial"/>
              </a:rPr>
              <a:t>Ph.D. (90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8080"/>
                </a:solidFill>
                <a:latin typeface="Arial"/>
              </a:rPr>
              <a:t>Þriðja þrep, sti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i="1" lang="is-IS" sz="1400" spc="-1" strike="noStrike">
                <a:solidFill>
                  <a:srgbClr val="808080"/>
                </a:solidFill>
                <a:latin typeface="Arial"/>
              </a:rPr>
              <a:t>Viðmið um æðri menntu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400" spc="-1" strike="noStrike">
                <a:solidFill>
                  <a:srgbClr val="808080"/>
                </a:solidFill>
                <a:latin typeface="Arial"/>
              </a:rPr>
              <a:t>bls. 13-14</a:t>
            </a:r>
            <a:r>
              <a:rPr b="0" lang="is-IS" sz="1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8000" y="2846520"/>
            <a:ext cx="2683080" cy="123012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8000" y="1190520"/>
            <a:ext cx="2683080" cy="1230480"/>
          </a:xfrm>
          <a:prstGeom prst="rect">
            <a:avLst/>
          </a:prstGeom>
          <a:solidFill>
            <a:srgbClr val="808080">
              <a:alpha val="53000"/>
            </a:srgbClr>
          </a:solidFill>
          <a:ln w="9360">
            <a:solidFill>
              <a:srgbClr val="808080">
                <a:alpha val="4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437000"/>
            <a:ext cx="1440000" cy="19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989000"/>
            <a:ext cx="3816360" cy="20732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M.A. /M.S</a:t>
            </a: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s-IS" sz="1800" spc="-1" strike="noStrike">
                <a:solidFill>
                  <a:srgbClr val="800000"/>
                </a:solidFill>
                <a:latin typeface="Arial"/>
              </a:rPr>
              <a:t>(60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00000"/>
                </a:solidFill>
                <a:latin typeface="Arial"/>
              </a:rPr>
              <a:t>Annað þrep, sti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Viðmið um æðri menntu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400" spc="-1" strike="noStrike">
                <a:solidFill>
                  <a:srgbClr val="000000"/>
                </a:solidFill>
                <a:latin typeface="Arial"/>
              </a:rPr>
              <a:t>bls. 11-13</a:t>
            </a: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a50021"/>
                </a:solidFill>
                <a:latin typeface="Arial"/>
              </a:rPr>
              <a:t>Inntökuskilyrð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51280" y="3933720"/>
            <a:ext cx="0" cy="7192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27320" y="3933720"/>
            <a:ext cx="0" cy="7192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a50021"/>
                </a:solidFill>
                <a:latin typeface="Arial"/>
              </a:rPr>
              <a:t>Nokkur viðmið IV – sýn K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érhæfing er í rannsók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Áhersla kemur fram í verkefnum, vali á AKR námskeiðum, í frjálsu vali og ekki síst í rannsóknarritgerð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Æskilegt er að nemandi tengist strax ákveðnu rannsóknarverkefni/sviði/hó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ver nemandi fái 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fararstjóra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“ við upphaf rannsóknarná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Fræðileg vinnubrögð (e. </a:t>
            </a:r>
            <a:r>
              <a:rPr b="0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able skills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14:42Z</dcterms:created>
  <dc:creator>allyson</dc:creator>
  <dc:description/>
  <dc:language>en-US</dc:language>
  <cp:lastModifiedBy>khi</cp:lastModifiedBy>
  <dcterms:modified xsi:type="dcterms:W3CDTF">2006-11-30T21:33:43Z</dcterms:modified>
  <cp:revision>18</cp:revision>
  <dc:subject/>
  <dc:title>Rannsóknarnám við Kennaraháskóla Íslands</dc:title>
</cp:coreProperties>
</file>